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505-E9B7-4308-B1F2-724CB600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A80-449F-42D2-8E06-7CF5EB6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ED9-8348-4711-B8C1-60F564D0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857-E59F-43E9-91B6-C5FE950B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4D6B-E1BF-4F11-AE4C-E5642585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A1D-8C18-46AE-AD2B-102EA7F8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A6B1-0564-4B48-8C9E-2F1DA487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7EFD-60A2-4B70-80A2-36B5E294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1DE3-3B2E-4B49-A92A-22A76825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B64E-6146-4C29-8DA2-FB714C48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57BC-1E42-4B0D-8737-D241A91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B3C-F664-4C95-8044-90B9135B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1D66-C4A3-4818-807F-E90B3EA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8E25-8162-4536-B1DC-09E6D1B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54D8-29B5-4D72-BAD6-E7847D06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F8A1-ADB7-457C-813E-7561A12E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AD69-D3FF-4A54-B4C5-04A10AF3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AA7-72B2-4A05-B466-E3CF2D11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A51-83C1-4F32-803C-A1CCE00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43E-BC39-4828-8D06-325645D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7D8-DB4E-491E-A723-61FBED1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12D-AC00-4735-BC24-F90E392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CAF-A5A9-4F69-98B6-E78E314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FAD-8DD8-48BB-A9F8-5A79E43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4A1C-FF17-4C19-88A4-0501C8D3722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DFB1-CA0F-4CBD-93E8-D97C630F14CF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ill There Was No Remedy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(Divided Kingdom – Part 1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64-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ings 8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hazi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year rule of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called Azariah &amp; Jehoah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horam’s 12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of the stories of Elisha happened during his 1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isha Meets with Hazael -2 Kgs.8: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zael murders Ben-hadad to take the Syrian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7913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th Ahaziah &amp; Jehoram Fight For Ramath-Gilead – 2 Kgs.8:28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1320" y="2819520"/>
            <a:ext cx="1676160" cy="60948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0492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rael &amp; Judah’s Kings Join Forces To Fight The Syrians over Ramoth-Gi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haz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relative of Ah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ympathizer and supporter of Jeho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killed by Je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horam’s 1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unded in b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hu anointed to be king – 2 Kgs.9: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lls Jeho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lls Ahaziah (Juda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zebel thrown to her death; eaten by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roys the sons of Ah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igns 28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7:13:58Z</dcterms:created>
  <dc:creator>Terry W. Benton</dc:creator>
  <dc:description/>
  <dc:language>en-US</dc:language>
  <cp:lastModifiedBy>Frank D Vines</cp:lastModifiedBy>
  <dcterms:modified xsi:type="dcterms:W3CDTF">2005-08-24T20:57:18Z</dcterms:modified>
  <cp:revision>4</cp:revision>
  <dc:subject/>
  <dc:title>Till There Was No Remedy (Divided Kingdom – Part 1)</dc:title>
</cp:coreProperties>
</file>